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0B1-EA62-40C8-A634-09901B9C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002-1F90-4590-9532-BBD79F54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E85-BAE8-46A9-80C1-52540646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4D0-40AC-4A3D-B43C-497DAAFC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6B3D8-599A-45FF-976D-67A4B427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DE986-6CE1-4BCB-8C66-31A5C6AA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C5B16-80B5-4EDC-B9DF-03F0053D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C51CE-BE4A-4E16-AB13-4DB805BE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C27B0-52F8-4B67-8296-C102B50D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F0C77-DB0D-4E39-AE42-9C31FB48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50FA3-AA0E-42B9-B781-315AD9FD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732-A603-4D32-B2F1-D4A7AFA3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F0029-34EB-414A-BCEF-06781B1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EC86F-A9D4-43BE-9AB1-BF44A75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E97CA-79B0-409C-8535-FC695A2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1D05E-97BE-443C-B12E-2C38733C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B92B9-A38A-4A80-BF46-BFD09C31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0C3-DC1A-47EE-BF24-B25CEE67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F67-C11D-4325-ACAA-2D95CD4E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6AF-73C1-416C-BBE0-31995A0B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2D8-1BE8-4875-91EE-D555219B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4DD-7C1F-473C-8D6B-19DD9211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761-2A65-42BE-A7BC-DB8FDDB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084-52C8-4F41-9240-CD47585A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D007-6B94-4677-8911-2F76D24ACE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38C5-C5F5-4EAD-A373-3A04D0724F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Giddyup Std"/>
              </a:rPr>
              <a:t>A Wonderful Paradise: </a:t>
            </a:r>
            <a:br>
              <a:rPr sz="6600"/>
            </a:br>
            <a:r>
              <a:rPr b="1" lang="en-US" sz="6600" spc="-1" strike="noStrike">
                <a:solidFill>
                  <a:srgbClr val="00ff00"/>
                </a:solidFill>
                <a:latin typeface="Giddyup Std"/>
              </a:rPr>
              <a:t>Barbados</a:t>
            </a:r>
            <a:endParaRPr b="0" lang="en-US" sz="66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iddyup Std"/>
              </a:rPr>
              <a:t>By: Tribecca Trav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Giddyup Std"/>
              </a:rPr>
              <a:t>Weather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29240" cy="4494960"/>
        </p:xfrm>
        <a:graphic>
          <a:graphicData uri="http://schemas.openxmlformats.org/drawingml/2006/table">
            <a:tbl>
              <a:tblPr/>
              <a:tblGrid>
                <a:gridCol w="2647440"/>
                <a:gridCol w="440640"/>
                <a:gridCol w="441000"/>
                <a:gridCol w="426960"/>
                <a:gridCol w="411480"/>
                <a:gridCol w="470160"/>
                <a:gridCol w="579240"/>
                <a:gridCol w="486000"/>
                <a:gridCol w="471240"/>
                <a:gridCol w="532080"/>
                <a:gridCol w="394920"/>
                <a:gridCol w="471240"/>
                <a:gridCol w="456840"/>
              </a:tblGrid>
              <a:tr h="198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Weather Average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for Barb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J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Fe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Ap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Ju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Ju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Sep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De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Daily Sunshine (H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12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Temperature (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Rainfall (inch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aa00"/>
                </a:solidFill>
                <a:latin typeface="Giddyup Std"/>
              </a:rPr>
              <a:t>That’s All For Now &amp; I Hope You Enjoy this Exotic Getaway!!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3000"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Monotype Corsiva"/>
              </a:rPr>
              <a:t>Great Location</a:t>
            </a:r>
            <a:endParaRPr b="0" lang="en-US" sz="60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3000">
    <p:circl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190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aa00"/>
                </a:solidFill>
                <a:latin typeface="Giddyup Std"/>
              </a:rPr>
              <a:t>Beautiful Beaches</a:t>
            </a:r>
            <a:endParaRPr b="0" lang="en-US" sz="66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3000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Pristina"/>
              </a:rPr>
              <a:t>West Coas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Pristina"/>
              </a:rPr>
              <a:t>Mullins B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1376400">
            <a:off x="4190760" y="1981080"/>
            <a:ext cx="3886200" cy="3238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Pristina"/>
              </a:rPr>
              <a:t>East Coas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Bathsheba B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 </a:t>
            </a: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Great for Picn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Popular Dest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Powerful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Pools in the Reef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00"/>
                </a:solidFill>
                <a:latin typeface="Pristina"/>
              </a:rPr>
              <a:t>South Coast</a:t>
            </a:r>
            <a:br>
              <a:rPr sz="4800"/>
            </a:b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Pristina"/>
              </a:rPr>
              <a:t>Sandy Beach/Caribb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Pristina"/>
              </a:rPr>
              <a:t>Accra B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Pristina"/>
              </a:rPr>
              <a:t>Miami  Be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 rot="20076000">
            <a:off x="914400" y="3352680"/>
            <a:ext cx="3097080" cy="2895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Pristina"/>
              </a:rPr>
              <a:t>South East Coas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 </a:t>
            </a: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Crane Bea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Lifestyles of the Rich &amp; Fam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This is the most popular b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761840" cy="180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Giddyup Std"/>
              </a:rPr>
              <a:t>Activities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Scuba Di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Swimming with Dolphins, Whales, &amp; Tur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Numerous of Elaborate Hotels &amp; Restaur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Many Exciting C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View the islands on “Cherry Tree Hill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1359600">
            <a:off x="7009920" y="304560"/>
            <a:ext cx="1857600" cy="1523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 rot="19868400">
            <a:off x="228600" y="228600"/>
            <a:ext cx="1857240" cy="1523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2268000">
            <a:off x="7286760" y="4952880"/>
            <a:ext cx="185724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0:04:53Z</dcterms:created>
  <dc:creator>Preferred Customer</dc:creator>
  <dc:description/>
  <dc:language>en-US</dc:language>
  <cp:lastModifiedBy>809277</cp:lastModifiedBy>
  <dcterms:modified xsi:type="dcterms:W3CDTF">2009-01-23T17:15:22Z</dcterms:modified>
  <cp:revision>5</cp:revision>
  <dc:subject/>
  <dc:title>Acapulco</dc:title>
</cp:coreProperties>
</file>